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C11-9957-4AF5-98A3-0C404FB5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4976-77E1-401A-AED4-243968C97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29E-C46E-47AC-A547-0DF97CBA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DED-EBCA-4322-A178-5CB3CB9F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25C-2E5D-426B-AF4F-04C64F5F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329-AF23-4055-8E90-280954D3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4AB-60BD-41D2-B19E-673288E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B38-2168-46FB-AFA8-0182D64C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425-0816-4986-B20F-38E8F7D7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134-4DE3-4831-BD9B-7DDA2B6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0BC-6BC2-4894-A6C8-972BC7A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15E-3F3B-440B-A88E-24814B0A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535-B27A-4B8E-A487-835F36E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8E9-4ED3-49EB-BB54-0651DB1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4EB-DAFF-46FE-8F73-8068C8AC3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ard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ard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914400" y="0"/>
            <a:ext cx="670572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6_15"/>
          <p:cNvPicPr/>
          <p:nvPr/>
        </p:nvPicPr>
        <p:blipFill>
          <a:blip r:embed="rId1"/>
          <a:stretch/>
        </p:blipFill>
        <p:spPr>
          <a:xfrm>
            <a:off x="1981080" y="6858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Geography of Relig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0" y="1066680"/>
            <a:ext cx="9144000" cy="4254480"/>
            <a:chOff x="0" y="1066680"/>
            <a:chExt cx="9144000" cy="4254480"/>
          </a:xfrm>
        </p:grpSpPr>
        <p:pic>
          <p:nvPicPr>
            <p:cNvPr id="60" name="Picture 3" descr="FG06_011"/>
            <p:cNvPicPr/>
            <p:nvPr/>
          </p:nvPicPr>
          <p:blipFill>
            <a:blip r:embed="rId1"/>
            <a:srcRect l="911" t="6666" r="4546" b="34667"/>
            <a:stretch/>
          </p:blipFill>
          <p:spPr>
            <a:xfrm>
              <a:off x="0" y="1066680"/>
              <a:ext cx="9144000" cy="42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FG06_011"/>
            <p:cNvPicPr/>
            <p:nvPr/>
          </p:nvPicPr>
          <p:blipFill>
            <a:blip r:embed="rId2"/>
            <a:srcRect l="1155" t="66155" r="70002" b="3846"/>
            <a:stretch/>
          </p:blipFill>
          <p:spPr>
            <a:xfrm>
              <a:off x="0" y="3597120"/>
              <a:ext cx="22096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6"/>
          <p:cNvSpPr/>
          <p:nvPr/>
        </p:nvSpPr>
        <p:spPr>
          <a:xfrm>
            <a:off x="60948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thnic Relig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olytheis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iversalizing Religions(proselytic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onotheis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12-12T22:56:55Z</dcterms:modified>
  <cp:revision>85</cp:revision>
  <dc:subject/>
  <dc:title>CRS Chapter 4</dc:title>
</cp:coreProperties>
</file>